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CFC3-7F41-4140-A528-34051B3B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6C4-D22D-46D8-8878-E29A468B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22A1-03A1-4E18-A28B-8628F461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885E-8065-41B3-94A6-948CC55A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CF4B-A47C-45E6-8218-672D19DE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3202-9BD3-4A77-8051-104F5012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5792-F831-4DB9-B739-9A9365C2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2E87-B65A-473A-9775-5BE5C274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1276-EDC4-4721-910C-93907D3B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E3F8-DF8E-4665-906C-A2517DC0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3A02-5B2E-419E-8D5F-A50B7A34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9F40-2E5E-47EE-82CF-CC38F78C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E585-D023-495D-9BF8-65CCF38A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F690-CC80-461C-8AD2-EC1B1248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7448-65CE-429F-A95A-B67E37B0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A4CA-20E4-4776-8A3F-EE96FC25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7F9D-CC40-4897-AB14-604F29D6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480B-F6ED-4D33-8340-526375E0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D446-7ACF-430A-8719-B4EA84D8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0206-AE64-4DFA-AF37-270D3824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E83-0BBB-40E5-B4BE-7BD50388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AD6D-E1BD-4829-8C95-49EFCE30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1A10-E80F-4977-BC85-63B836B4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0D1D-71C3-4C68-8FF4-80CE9DC7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C8CA-721B-42C3-9C93-00ADFBA0FA4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E0D3-A610-498B-90E0-E22358F7D0D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ather and Clim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the Dif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4495680"/>
            <a:ext cx="1744560" cy="183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oday, you will learn tha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ther and climate are always changing. At times the changes can be sudden and dramatic, while on other occasions the changes are subtle and occur over long periods of 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You should be able to identif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are weather and climate different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does weather affect climat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72200" y="4191120"/>
            <a:ext cx="1806480" cy="1577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eath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t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refers to day-to-day temperature, precipitation activity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s sunshine, rain, cloud cover, winds, hail, snow, sleet, freezing rain, flooding, blizzards, ice storms, thunderstorms, steady rains from a cold front or warm front, excessive heat, heat waves and mo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ools to Measure Weath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 Ga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lls you how much precipitation we’ve recei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lls you how hot or cold a place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V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lls you which direction the wind is blow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lls you which way is North, so you can use a Wind V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ere is an example of a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eather 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20760" y="2487600"/>
            <a:ext cx="5127840" cy="3573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m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m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description of the long-term average pattern of weather in a particular area. Some scientists define climate as the average weather for a particular region and time period, usually taken over 30-yea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ne example of a Climate M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of Rain per Month in New York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95280" y="3048120"/>
            <a:ext cx="6324840" cy="3576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nother Example of a Climate M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29926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Temperatures in New York City each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5129280" cy="4267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tmosphe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mosphere is made up of clouds and particles in the sky and it’s where our weather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1827360" cy="182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9:09:45Z</dcterms:created>
  <dc:creator>JFLORES9</dc:creator>
  <dc:description/>
  <dc:language>en-US</dc:language>
  <cp:lastModifiedBy>JFLORES9</cp:lastModifiedBy>
  <dcterms:modified xsi:type="dcterms:W3CDTF">2010-10-14T19:43:05Z</dcterms:modified>
  <cp:revision>4</cp:revision>
  <dc:subject/>
  <dc:title>Weather and Climate</dc:title>
</cp:coreProperties>
</file>